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E26BF-7CAA-4A98-99A1-B3CD95BB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35BAA-16FB-4E6E-B359-54071F86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F768E-FC17-47D6-8B8E-47AD9B66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EF737-7822-4868-9838-06114D89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8B2C-3AC2-46D6-9163-83BF9A97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EFAD-1D9C-4FD4-9558-5AF4C84D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6E4D-9BE4-4AAC-9FDB-FDA8F6A8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AEBA-B12E-4F03-BC5F-890B0357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7BEF-C03F-461C-A9EE-113B7E8B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9A95-06B8-49D9-9757-AFFCA902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5A02-8B70-484B-BDC4-ABC4B787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74078-69C2-49FB-8803-F1375186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E429-C0B5-432D-BD20-B06DAA3B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61C7-BD50-4343-AFE4-596FE0D0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A1A8-8BE1-4B39-A812-83EF0C4E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DAD1-2547-4054-BD4D-0A9C7DBF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1219-CCE7-4255-ADFD-2A3BE481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E8817-5312-4BEA-8F63-D0F0CDA0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4A4DA-6358-46A7-974E-AB74809B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1DCCA-0A15-4254-B805-5A8C0C80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BDEF8-9C06-4B2B-96F2-6EA5BA9C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AD67E-621E-471D-9DA1-3FF554C5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5D17-12DD-47A2-AE72-8E550D81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9D093-B8BE-4E8E-A2C0-8A74001A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B08A-90BC-4ADF-85C5-EBD2F11A4CB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A546-E19E-465B-B788-256CE062771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14280" y="4428720"/>
            <a:ext cx="7172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ы и инструм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 описание предполагает, что транслятор wavrasm правильно установлен на компьютер, на котором происходит раб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961640"/>
            <a:ext cx="3384360" cy="41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огическое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битовое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нарный мин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мн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4572000" y="1413000"/>
            <a:ext cx="3384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ч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двиг вл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двиг впра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ьше или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или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4643280" y="177336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сключающе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пилятор язык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 CodeVision AV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deVision представляет собой кросс-компилятор языка С, графическую оболочку и автоматический генератор программ, ориентированные на работу с семейством микроконтроллеров AVR фирмы Atm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представляет собой 32-разрядное приложение для работы в операционных системах Windows 95, 98, NT4.0 и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ер, формат программы на ассембл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ы микроконтрол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илятор язы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CodeVision AV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008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микроконтроллеров семейства AVR имеется свободно распространяемый транслятор ассемблера — wavrasm. Также одновременно с транслятором ассемблера устанавливается программа для отладки программ на языке ассемблера для микроконтроллеров семейства AV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она заметно уступает свободно распространяемому фирмой Atmel отладчику AVR Studio, поэтому ее мы рассматривать не буд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353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ат программы на ассембле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813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метка:] директива [аргументы директивы] [комментарий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метка:] мнемоника команды [аргументы команды] [комментарий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ент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ая ст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49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ифметические и логическ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условных и безусловных перех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передачи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для работы с би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анды микроконтрол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BYTE — резервирует 1 байт для использования в качестве переменн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CSEG — сегмент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B — определяет байт-констан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F — определяет символическое имя для регист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VICE — задает тип целевого микроконтролл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SEG — сегмент да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W — определяет слово-констан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DMACRO — конец определения макро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QU — сопоставляет символьному имени арифметическое выра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539640" y="297180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468360" y="5373720"/>
            <a:ext cx="828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SEG — сегмент EEPRO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XIT — выйти из файла (конец текста программ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CLUDE — загрузить исходный текст из другого фай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IST — включить генерацию листин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ISTMAC — включить печать содержимого макросов в листинг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ACRO — начать определение мак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NOLIST — выключить генерацию листин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ORG — установить располо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ET — сопоставить символу вы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емблер позволяет использовать в тексте программы выра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могут содержать операнды, операции и фун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выражения имеют разрядность 32 би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352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менные, определенные с помощью директивы S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станты, определенные с помощью директивы EQ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лые конста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сятичные (по умолчанию): 10, 25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естнадцатеричные (два вида записи): ОхОа, $0а, Oxff, $f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воичные: 000000 1010, 00 1111111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ды символов ASCII: 'A', 'a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роки ASCII (без нуля в конце строки): «String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 — текущее значение счетчика команд в памяти програ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20Z</dcterms:modified>
  <cp:revision>10</cp:revision>
  <dc:subject/>
  <dc:title>Микропроцессорные системы</dc:title>
</cp:coreProperties>
</file>